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05D9-6481-47E0-A21B-13C96B981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D950-7829-4ED6-94DC-268D0A8A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0175-A14D-49CD-B0E4-0CE369478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5C47-B1C3-4551-89AB-9B82831D9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03C08-8705-481A-A717-D30A6571A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095DF-D1CD-404B-85CE-4403BB2D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7BAAF-78AD-4775-9083-CA7F6219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DB294-FAF3-470F-871B-D5F3A38C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3EC39-8E55-4300-8F70-D3906C92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71743-46AF-4B74-B7BE-318CEB6F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980E3-C93D-4A22-87E1-0189A161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064E-06CB-4223-B8D3-349ACB12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B1EAFE-7512-4EEB-B3D8-F4E5E813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57ADB-DE30-4A81-8E42-4FE5A517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DE651-0E90-418A-AE7E-7EF8574B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11755-A7EE-41CA-AFF1-5C7DC217F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01CB9F-7A9F-46F0-8494-59F7D0ACB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8802-7F9D-4257-BD7F-5D00DF1F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CBA1-6920-45E6-B464-F98C4638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199D-5786-4767-84B6-A373F602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DE51-5735-42E5-8B2F-620847F7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1B36-2F48-4668-80DA-3BE588C0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C0C1-04A5-43F9-B5A6-2638F9FC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93E2-E5AD-4881-A584-6247AED8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1F05-1D8F-41C2-BB19-09E698E5DA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EEA2-1D61-4197-8E3A-48F07279E0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blurtit.com/var/group/images/g/g9/g96/g963/featured_g963895_anole.jpg&amp;imgrefurl=http://www.blurtit.com/groups/The_Lizard_Family&amp;h=400&amp;w=400&amp;sz=80&amp;hl=en&amp;start=109&amp;tbnid=z23w0eAszWUT9M:&amp;tbnh=124&amp;tbnw=124&amp;prev=/images%3Fq%3Danoles%26start%3D100%26gbv%3D2%26ndsp%3D20%26hl%3Den%26sa%3DN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the-lizard-lounge.com/content/gallery/lizard-pictures/green-anole-pictures/green-anole-01.jpg&amp;imgrefurl=http://www.the-lizard-lounge.com/content/gallery/lizard-pictures/green-anole-pictures-1.asp&amp;h=314&amp;w=400&amp;sz=116&amp;hl=en&amp;start=1&amp;tbnid=qvN3pyeNSFuzgM:&amp;tbnh=97&amp;tbnw=124&amp;prev=/images%3Fq%3DANOLE%26gbv%3D2%26hl%3Den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saltgrassflats.com/images/green_anole_green_01a_smithoaks_040502.jpg&amp;imgrefurl=http://www.saltgrassflats.com/wildlife/green_anole.html&amp;h=284&amp;w=381&amp;sz=24&amp;hl=en&amp;start=5&amp;tbnid=CIHfL7cCHiR_iM:&amp;tbnh=92&amp;tbnw=123&amp;prev=/images%3Fq%3DANOLE%26gbv%3D2%26hl%3Den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srs.gov/general/pubs/ERsum/er06/images/anole.jpg&amp;imgrefurl=http://www.srs.gov/general/pubs/ERsum/er06/index.html&amp;h=400&amp;w=400&amp;sz=14&amp;hl=en&amp;start=12&amp;tbnid=sdjgfS5k9cmLCM:&amp;tbnh=124&amp;tbnw=124&amp;prev=/images%3Fq%3DANOLE%26gbv%3D2%26hl%3Den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wpclipart.com/animals/A/Anole_eating.png&amp;imgrefurl=http://www.wpclipart.com/animals/A/&amp;h=451&amp;w=492&amp;sz=143&amp;hl=en&amp;start=11&amp;tbnid=jElGuYd-yU2FwM:&amp;tbnh=119&amp;tbnw=130&amp;prev=/images%3Fq%3DANOLE%26gbv%3D2%26hl%3Den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reptiledepot.com/pics/anole.jpg&amp;imgrefurl=http://www.reptiledepot.com/lizards.html&amp;h=225&amp;w=300&amp;sz=14&amp;hl=en&amp;start=166&amp;tbnid=aeVbkjmy3AfWwM:&amp;tbnh=87&amp;tbnw=116&amp;prev=/images%3Fq%3Danoles%26start%3D160%26gbv%3D2%26ndsp%3D20%26hl%3Den%26sa%3DN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izar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1294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 Skyler R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19720" y="4419720"/>
            <a:ext cx="270504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izards are cool!!!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05320" y="2895480"/>
            <a:ext cx="32763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izards protect themselves by their scales on their body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2286000"/>
            <a:ext cx="73915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cal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their body help them be sa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cales are pretty, but don’t rip them off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86200" y="4343400"/>
            <a:ext cx="312408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y can’t change body temp. by themselve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move to warm places or cold places. They live in warm climates or cold clima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9880" y="3581280"/>
            <a:ext cx="339120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y hibernate too. It’s so amazing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sleep during the day. They’re awake during the nigh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86200" y="2971800"/>
            <a:ext cx="33717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y can grow to be 1.6in,-9.9ft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such as the Komodo dragon are big and long. Some such as the anole aren’t that lo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43200" y="3886200"/>
            <a:ext cx="24004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 hope you enjoyed learning about lizards</a:t>
            </a:r>
            <a:r>
              <a:rPr b="0" lang="en-US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114800" y="3505320"/>
            <a:ext cx="2438280" cy="2057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0T20:09:51Z</dcterms:modified>
  <cp:revision>4</cp:revision>
  <dc:subject/>
  <dc:title>Animal Name</dc:title>
</cp:coreProperties>
</file>